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36E-41B7-4A58-8724-142BCC1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974-1C7F-4B65-AA7F-B812C82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85A-4C25-44B5-8E40-620D1D36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644-6DDD-4FF3-AB77-CDB363DE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CEA7-012E-4A9A-B6C9-FA2ADA04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520-3D19-4E32-A60F-BE421A9B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6B77-537F-46CC-AA97-2C81112B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CEDA-444B-4D28-857D-343C664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A1F0-126A-450B-9629-B80E954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A384-5971-48EB-987D-55F412C6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B043-D262-465F-B5ED-91008F1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791-E237-43B5-923D-79948BA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D14-5CB7-448D-8498-25F19DC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6B39-C21E-45B6-BBF6-65B647F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C28A-586C-4B07-A6A3-1C36FC3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79E9-5A9B-49BB-8D05-4BD4B778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52B-C4DF-465A-A22E-7DDC12FE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4EB-CBA6-40D7-A396-9B002F0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B88-649E-4795-B384-36ECFE6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46C-0739-42BA-8E1D-EAAB7C8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10B-C19A-4F69-BB97-BF9BE293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705-3B87-4BEF-9778-9ECA70DC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EE5-05A0-498F-99AD-1E5DF68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E96-A39C-4E73-A709-0490B4E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F033-36DC-4D68-AB6C-3A4A79A2ED6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4D93-6D4A-468E-8361-2125ADE91E0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0108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dcd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cdcd"/>
                </a:solidFill>
                <a:latin typeface="Arial"/>
              </a:rPr>
              <a:t>Eli Whitney invented it in 1794 (or was it Catherine Littlefield Green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dcd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cdcd"/>
                </a:solidFill>
                <a:latin typeface="Arial"/>
              </a:rPr>
              <a:t>What did the cotton gin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257560" cy="32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95680" y="4076640"/>
            <a:ext cx="4197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cd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dcd"/>
                </a:solidFill>
                <a:latin typeface="Arial"/>
              </a:rPr>
              <a:t>One consequence of cotton cultivation was the ruination of the 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dcd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dcd"/>
                </a:solidFill>
                <a:latin typeface="Arial"/>
              </a:rPr>
              <a:t>By 1835, eastern Georgia topsoil was deple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dcd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cdcd"/>
                </a:solidFill>
                <a:latin typeface="Arial"/>
              </a:rPr>
              <a:t>Planters looked westward, which created an enormous appetite for land. (This need for land will be one of the major reasons for the government to push for westward expansion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457200" y="9140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38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8a4b"/>
                </a:solidFill>
                <a:latin typeface="Arial"/>
              </a:rPr>
              <a:t>Ye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68a4b"/>
                </a:solidFill>
                <a:latin typeface="Arial"/>
              </a:rPr>
              <a:t>Poun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79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  1,567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79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8,359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36,572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0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73,145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1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88,819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1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04,493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2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67,189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2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266,457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3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365,726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3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530,355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4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673,116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45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902,111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50                                 1,066,925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55                                 1,608,708,5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1860                                1,918,701,000</a:t>
            </a:r>
            <a:r>
              <a:rPr b="0" lang="en-US" sz="1800" spc="-1" strike="noStrike">
                <a:solidFill>
                  <a:srgbClr val="cdcdc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Adapted from Table 2 in William H. Phillips, Cotton Gin, EH.Net Encyclope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388960" indent="0">
              <a:lnSpc>
                <a:spcPct val="90000"/>
              </a:lnSpc>
              <a:spcBef>
                <a:spcPts val="249"/>
              </a:spcBef>
              <a:buNone/>
              <a:tabLst>
                <a:tab algn="r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6520" y="38088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0c28"/>
                </a:solidFill>
                <a:latin typeface="Arial"/>
                <a:ea typeface="Osaka"/>
              </a:rPr>
              <a:t>U.S. Production of All Types of Raw Cotton, 1790-18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3149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4640" y="533520"/>
            <a:ext cx="79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tton Production and Slave Population - 18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229" t="1205" r="50837" b="50670"/>
          <a:stretch/>
        </p:blipFill>
        <p:spPr>
          <a:xfrm>
            <a:off x="4419720" y="1676520"/>
            <a:ext cx="4572000" cy="372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6920" y="1523880"/>
            <a:ext cx="4070160" cy="4267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3720" y="5867280"/>
            <a:ext cx="351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ages.uoregon.edu/maphist/english/US/US18-01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3560" y="15228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wth of slaver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1076" t="1110" r="1273" b="50670"/>
          <a:stretch/>
        </p:blipFill>
        <p:spPr>
          <a:xfrm>
            <a:off x="4419720" y="1752480"/>
            <a:ext cx="4572000" cy="381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4640" y="533520"/>
            <a:ext cx="79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tton Production and Slave Population - 18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146840" cy="433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3720" y="5867280"/>
            <a:ext cx="351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ages.uoregon.edu/maphist/english/US/US18-01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2:53:41Z</dcterms:created>
  <dc:creator>Yarmouth Schools</dc:creator>
  <dc:description/>
  <dc:language>en-US</dc:language>
  <cp:lastModifiedBy>user</cp:lastModifiedBy>
  <dcterms:modified xsi:type="dcterms:W3CDTF">2010-12-30T18:56:50Z</dcterms:modified>
  <cp:revision>90</cp:revision>
  <dc:subject/>
  <dc:title>What Factors Contributed to Slavery in America?</dc:title>
</cp:coreProperties>
</file>